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71F-909D-49EC-B0CE-2D6156A9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4E3-8368-44D5-9681-2563CFCA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DD0-491E-4A1E-BBF9-73F1FC6A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E04-0286-45C6-9BAF-5950B126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3B9F-DFBC-45F5-89D0-61A0A868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D1F1-9923-4C25-952E-921D228E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99E2-8AA6-48FC-8473-5F9583AE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97DA-8F84-4DD6-B447-A0A6F0B1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87E6-A9A2-4B8E-A287-3112509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6DE2-4037-4502-9423-7D53ED1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A6EF-E44A-4DF2-865E-AC5B19A1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CC2-05C9-4773-8B2B-36553D83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F38B-96B0-4F1A-8B12-B28756F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016-85F3-4399-898B-D783257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D845-5069-47DE-A0CA-0B4C9A83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0E1-51F9-4C52-91FA-2E2CFA3D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DCD2-4B5E-4A33-AA2E-3B120E1C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CDC-623E-4F0A-B79C-A9F854E8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DF4-F222-4DD7-91A1-6E74D136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155-EB4E-4AC1-9025-312BF11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019-965D-4FF1-8970-CABA1D92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8E4-7618-4DC2-9660-05342BC6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4DE-EF75-4106-9C90-DCBB9201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87F-506C-4095-BEA2-25407B9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Cartoons\People2\LC15132C.WMF"/>
          <p:cNvPicPr/>
          <p:nvPr/>
        </p:nvPicPr>
        <p:blipFill>
          <a:blip r:embed="rId2"/>
          <a:stretch/>
        </p:blipFill>
        <p:spPr>
          <a:xfrm>
            <a:off x="5195880" y="4827600"/>
            <a:ext cx="3948120" cy="20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9E21D-0FB0-4B16-BED6-F24CD67424DC}" type="datetime">
              <a:rPr b="0" lang="en-US" sz="1400" spc="-1" strike="noStrike">
                <a:solidFill>
                  <a:srgbClr val="cc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2A67E-6FD3-4241-92F9-63FE9249BE09}" type="slidenum">
              <a:rPr b="0" lang="en-US" sz="1400" spc="-1" strike="noStrike">
                <a:solidFill>
                  <a:srgbClr val="cc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:\Cartoons\People2\LC15113C.WMF"/>
          <p:cNvPicPr/>
          <p:nvPr/>
        </p:nvPicPr>
        <p:blipFill>
          <a:blip r:embed="rId3"/>
          <a:stretch/>
        </p:blipFill>
        <p:spPr>
          <a:xfrm>
            <a:off x="0" y="5062680"/>
            <a:ext cx="190512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E:\Cartoons\People2\LC15129C.WMF"/>
          <p:cNvPicPr/>
          <p:nvPr/>
        </p:nvPicPr>
        <p:blipFill>
          <a:blip r:embed="rId2"/>
          <a:stretch/>
        </p:blipFill>
        <p:spPr>
          <a:xfrm>
            <a:off x="7021440" y="0"/>
            <a:ext cx="2122560" cy="228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4" name="Picture 11" descr="E:\Cartoons\People2\LC15102C.WMF"/>
          <p:cNvPicPr/>
          <p:nvPr/>
        </p:nvPicPr>
        <p:blipFill>
          <a:blip r:embed="rId3"/>
          <a:stretch/>
        </p:blipFill>
        <p:spPr>
          <a:xfrm>
            <a:off x="0" y="3262320"/>
            <a:ext cx="3675240" cy="359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5" name="Picture 12" descr="E:\Cartoons\People2\LC15090C.WMF"/>
          <p:cNvPicPr/>
          <p:nvPr/>
        </p:nvPicPr>
        <p:blipFill>
          <a:blip r:embed="rId4"/>
          <a:stretch/>
        </p:blipFill>
        <p:spPr>
          <a:xfrm>
            <a:off x="6400800" y="4152960"/>
            <a:ext cx="27432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15AC7-7C44-4027-A0B1-60A6F368F62E}" type="datetime">
              <a:rPr b="0" lang="en-US" sz="1400" spc="-1" strike="noStrike">
                <a:solidFill>
                  <a:srgbClr val="00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6838B-B68F-4CAA-B470-AB3A0DBCF093}" type="slidenum">
              <a:rPr b="0" lang="en-US" sz="1400" spc="-1" strike="noStrike">
                <a:solidFill>
                  <a:srgbClr val="00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47676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ession 3 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5600" y="2901600"/>
            <a:ext cx="6548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lanning for Instructio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art 2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Holy Family Unit Plan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25760"/>
            <a:ext cx="77724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ubject Area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Grad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Unit Title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Estimated Time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tudent Populatio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tage 1—Desired Results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tandards –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ich will be addressed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Understanding (s)-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at are the big ideas? What specific understandings about them are desired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Essential Question (s)-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at question will foster inquiry,understanding and transfer of knowledge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3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ttitude(s) and Value(s) –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ttitudes and Democratic values to be developed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kills –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What skills related to acquring, organizing and using information;what technology skillls; what interpersonal skills 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320" y="423360"/>
            <a:ext cx="82407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tage 2- Assessment Evidence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23300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erformance Task –What authentic performance task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236520" indent="-2365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Other Evidence –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quizzes, observations, journals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       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	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685800" y="351936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tage 3- Learning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436680" y="4321080"/>
            <a:ext cx="77724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Learning Activities (8-10 les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2211480" y="5276880"/>
            <a:ext cx="51102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References-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Take A Look at a Sample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Jdahl.wikispaces.com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2:27:08Z</dcterms:created>
  <dc:creator>Rosemary Parmigiani</dc:creator>
  <dc:description/>
  <dc:language>en-US</dc:language>
  <cp:lastModifiedBy>Rosemary Parmigiani</cp:lastModifiedBy>
  <dcterms:modified xsi:type="dcterms:W3CDTF">2010-09-01T04:52:38Z</dcterms:modified>
  <cp:revision>6</cp:revision>
  <dc:subject/>
  <dc:title>Session 2</dc:title>
</cp:coreProperties>
</file>